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N00793A.wav" ContentType="audio/x-wav"/>
  <Override PartName="/ppt/media/image9.wmf" ContentType="image/x-wmf"/>
  <Override PartName="/ppt/media/image8.png" ContentType="image/png"/>
  <Override PartName="/ppt/media/image10.png" ContentType="image/png"/>
  <Override PartName="/ppt/media/applause.wav" ContentType="audio/x-wav"/>
  <Override PartName="/ppt/media/image15.png" ContentType="image/png"/>
  <Override PartName="/ppt/media/image12.gif" ContentType="image/gif"/>
  <Override PartName="/ppt/media/image1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j0074728.wav" ContentType="audio/x-wav"/>
  <Override PartName="/ppt/media/image4.png" ContentType="image/png"/>
  <Override PartName="/ppt/media/image13.wmf" ContentType="image/x-wmf"/>
  <Override PartName="/ppt/media/image5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40AE-649A-42F2-9C69-7AF384AE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385F-0A0E-454C-A2F9-6D1590FBF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F5FC-988B-4213-8EDB-8D98A92D4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FA01-C95F-4F25-839B-A5445022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B664-13C6-400B-8CA7-6DAB036E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EBBA-7082-46BE-AC5F-A2A31DD8E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DD04-E35A-4886-A534-AC11E7BD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5CB1-0974-4C8F-8512-716B29C4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A56B-D6A1-4FA5-8995-FE0B72AC9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7B7E-8DCA-4CCF-841E-C040AD0F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575-51F1-4743-8C56-48DA0E55D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1772-39ED-41DD-AFFD-DDC44E217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4890-A8E3-4102-9727-4BDB31765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8FE9-07AF-4D73-9536-2279652C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7C96-B362-4E94-B0D4-D5DA058FA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82DA-5D2C-4CCA-ABAA-19D423A9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968A-0B85-4BE0-A2E4-85991D1BE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4AF-3FD2-466E-BBB8-D587F6D0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5CC-3977-458A-A9D5-410D75B5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AC2-CCFF-49E9-B39C-4BE2C6BB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A81-B86D-42BB-BB58-4E57F31F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FCE-D5A0-4E11-9ED0-1CD8E281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972-8143-47EA-B92D-9031E48E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928-3C4D-4FB6-818B-52AB8B9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881-6DC0-479D-9B8C-066AF3C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CD7-A619-43B0-8C8F-35BB2CA2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BB8-03B5-4A40-8888-6C332C6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67C-74FA-4737-9291-6CC74359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28B-2072-49FC-9C93-E180AB9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1AF-2F2C-48AC-BA77-3F381A58A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j007472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audio" Target="../media/SN00793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audio" Target="../media/SN00793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audio" Target="../media/SN00793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j007472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j0074728.wav"/><Relationship Id="rId3" Type="http://schemas.openxmlformats.org/officeDocument/2006/relationships/audio" Target="../media/j0074728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../media/j0074728.wav"/><Relationship Id="rId5" Type="http://schemas.openxmlformats.org/officeDocument/2006/relationships/audio" Target="../media/SN00793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audio" Target="../media/j0074728.wav"/><Relationship Id="rId5" Type="http://schemas.openxmlformats.org/officeDocument/2006/relationships/audio" Target="../media/j0074728.wav"/><Relationship Id="rId6" Type="http://schemas.openxmlformats.org/officeDocument/2006/relationships/audio" Target="../media/j0074728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00"/>
                </a:solidFill>
                <a:latin typeface="SchoolText"/>
              </a:rPr>
              <a:t>Money Matter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SchoolText"/>
              </a:rPr>
              <a:t>Introduction to the Pen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SchoolText"/>
              </a:rPr>
              <a:t>by: Nickie Kell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2" name="j007472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 flipH="1" rot="10800000">
            <a:off x="838080" y="4952520"/>
            <a:ext cx="2014560" cy="167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3505320" y="5029200"/>
            <a:ext cx="201456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6095880" y="5029200"/>
            <a:ext cx="2014560" cy="1447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1295280" y="14479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d you say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276720" y="27432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72428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N0079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Guided Practi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w me 4c on your work m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"/>
          <p:cNvSpPr/>
          <p:nvPr/>
        </p:nvSpPr>
        <p:spPr>
          <a:xfrm>
            <a:off x="35812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343400" y="2057400"/>
            <a:ext cx="4419720" cy="358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:\Program Files\Microsoft Office\Clipart\standard\stddir2\bs00316_.wmf"/>
          <p:cNvPicPr/>
          <p:nvPr/>
        </p:nvPicPr>
        <p:blipFill>
          <a:blip r:embed="rId1"/>
          <a:stretch/>
        </p:blipFill>
        <p:spPr>
          <a:xfrm>
            <a:off x="762120" y="3809880"/>
            <a:ext cx="1676160" cy="3048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143000" y="5638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5238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C:\WINDOWS\Application Data\Microsoft\Media Catalog\Downloaded Clips\cl71\j0283467.gif"/>
          <p:cNvPicPr/>
          <p:nvPr/>
        </p:nvPicPr>
        <p:blipFill>
          <a:blip r:embed="rId2"/>
          <a:stretch/>
        </p:blipFill>
        <p:spPr>
          <a:xfrm>
            <a:off x="1981080" y="2819520"/>
            <a:ext cx="2210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ide and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3520" y="2057400"/>
            <a:ext cx="822960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c:\Program Files\Microsoft Office\Clipart\standard\stddir2\bs00590_.wmf"/>
          <p:cNvPicPr/>
          <p:nvPr/>
        </p:nvPicPr>
        <p:blipFill>
          <a:blip r:embed="rId1"/>
          <a:stretch/>
        </p:blipFill>
        <p:spPr>
          <a:xfrm>
            <a:off x="662940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Program Files\Microsoft Office\Clipart\standard\stddir2\bs00590_.wmf"/>
          <p:cNvPicPr/>
          <p:nvPr/>
        </p:nvPicPr>
        <p:blipFill>
          <a:blip r:embed="rId2"/>
          <a:stretch/>
        </p:blipFill>
        <p:spPr>
          <a:xfrm>
            <a:off x="472428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Program Files\Microsoft Office\Clipart\standard\stddir2\bs00590_.wmf"/>
          <p:cNvPicPr/>
          <p:nvPr/>
        </p:nvPicPr>
        <p:blipFill>
          <a:blip r:embed="rId3"/>
          <a:stretch/>
        </p:blipFill>
        <p:spPr>
          <a:xfrm>
            <a:off x="312408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Program Files\Microsoft Office\Clipart\standard\stddir2\bs00590_.wmf"/>
          <p:cNvPicPr/>
          <p:nvPr/>
        </p:nvPicPr>
        <p:blipFill>
          <a:blip r:embed="rId4"/>
          <a:stretch/>
        </p:blipFill>
        <p:spPr>
          <a:xfrm>
            <a:off x="1295280" y="3200400"/>
            <a:ext cx="14796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N0079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w me 6c on your work m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5812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343400" y="2057400"/>
            <a:ext cx="4419720" cy="358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2\bs00316_.wmf"/>
          <p:cNvPicPr/>
          <p:nvPr/>
        </p:nvPicPr>
        <p:blipFill>
          <a:blip r:embed="rId1"/>
          <a:stretch/>
        </p:blipFill>
        <p:spPr>
          <a:xfrm>
            <a:off x="838080" y="3809880"/>
            <a:ext cx="1676520" cy="304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143000" y="5638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5238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c:\Program Files\Microsoft Office\Clipart\standard\stddir4\so01957_.wmf"/>
          <p:cNvPicPr/>
          <p:nvPr/>
        </p:nvPicPr>
        <p:blipFill>
          <a:blip r:embed="rId2"/>
          <a:stretch/>
        </p:blipFill>
        <p:spPr>
          <a:xfrm>
            <a:off x="1905120" y="1828800"/>
            <a:ext cx="2109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ide and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2057400"/>
            <a:ext cx="914400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c:\Program Files\Microsoft Office\Clipart\standard\stddir2\bs00590_.wmf"/>
          <p:cNvPicPr/>
          <p:nvPr/>
        </p:nvPicPr>
        <p:blipFill>
          <a:blip r:embed="rId1"/>
          <a:stretch/>
        </p:blipFill>
        <p:spPr>
          <a:xfrm>
            <a:off x="746748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Program Files\Microsoft Office\Clipart\standard\stddir2\bs00590_.wmf"/>
          <p:cNvPicPr/>
          <p:nvPr/>
        </p:nvPicPr>
        <p:blipFill>
          <a:blip r:embed="rId2"/>
          <a:stretch/>
        </p:blipFill>
        <p:spPr>
          <a:xfrm>
            <a:off x="594360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Program Files\Microsoft Office\Clipart\standard\stddir2\bs00590_.wmf"/>
          <p:cNvPicPr/>
          <p:nvPr/>
        </p:nvPicPr>
        <p:blipFill>
          <a:blip r:embed="rId3"/>
          <a:stretch/>
        </p:blipFill>
        <p:spPr>
          <a:xfrm>
            <a:off x="449568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:\Program Files\Microsoft Office\Clipart\standard\stddir2\bs00590_.wmf"/>
          <p:cNvPicPr/>
          <p:nvPr/>
        </p:nvPicPr>
        <p:blipFill>
          <a:blip r:embed="rId4"/>
          <a:stretch/>
        </p:blipFill>
        <p:spPr>
          <a:xfrm>
            <a:off x="3048120" y="320040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Program Files\Microsoft Office\Clipart\standard\stddir2\bs00590_.wmf"/>
          <p:cNvPicPr/>
          <p:nvPr/>
        </p:nvPicPr>
        <p:blipFill>
          <a:blip r:embed="rId5"/>
          <a:stretch/>
        </p:blipFill>
        <p:spPr>
          <a:xfrm>
            <a:off x="1523880" y="320040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Program Files\Microsoft Office\Clipart\standard\stddir2\bs00590_.wmf"/>
          <p:cNvPicPr/>
          <p:nvPr/>
        </p:nvPicPr>
        <p:blipFill>
          <a:blip r:embed="rId6"/>
          <a:stretch/>
        </p:blipFill>
        <p:spPr>
          <a:xfrm>
            <a:off x="0" y="3276720"/>
            <a:ext cx="14796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N0079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Congratulation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!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You are a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Penny Exper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6600"/>
                </a:solidFill>
                <a:latin typeface="SchoolText"/>
              </a:rPr>
              <a:t>Penny Fac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School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Cir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School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School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Copp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572000" y="426708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800440" cy="2860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j0074728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523880" y="8380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219320" y="11430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Times New Roman"/>
              </a:rPr>
              <a:t>A penny has two sides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C:\WINDOWS\Application Data\Microsoft\Media Catalog\Downloaded Clips\cl0\AG00360_.gif"/>
          <p:cNvPicPr/>
          <p:nvPr/>
        </p:nvPicPr>
        <p:blipFill>
          <a:blip r:embed="rId1"/>
          <a:stretch/>
        </p:blipFill>
        <p:spPr>
          <a:xfrm>
            <a:off x="2590920" y="2765520"/>
            <a:ext cx="42670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ea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braham Lincol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vil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black 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28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ow much is a penny wor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027"/>
          <p:cNvGraphicFramePr/>
          <p:nvPr/>
        </p:nvGraphicFramePr>
        <p:xfrm>
          <a:off x="4191120" y="3276720"/>
          <a:ext cx="5140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276720"/>
                    <a:ext cx="514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028"/>
          <p:cNvSpPr/>
          <p:nvPr/>
        </p:nvSpPr>
        <p:spPr>
          <a:xfrm>
            <a:off x="3276720" y="26668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9" descr=""/>
          <p:cNvPicPr/>
          <p:nvPr/>
        </p:nvPicPr>
        <p:blipFill>
          <a:blip r:embed="rId3"/>
          <a:stretch/>
        </p:blipFill>
        <p:spPr>
          <a:xfrm>
            <a:off x="3657600" y="4648320"/>
            <a:ext cx="1352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1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66680" y="19810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SchoolText"/>
              </a:rPr>
              <a:t>It’s time to check your learning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2" name="j0074728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0747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1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905120" y="9144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SchoolText"/>
              </a:rPr>
              <a:t>How much is a penny wor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2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876920" y="3048120"/>
            <a:ext cx="3200400" cy="41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hoolText"/>
              </a:rPr>
              <a:t>Did you say...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SchoolTex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Object 1026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47304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295280" y="3200400"/>
            <a:ext cx="2014560" cy="2057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4" name="j0074728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N0079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43000" y="137160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much mone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201456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2014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747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7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7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06:06:35Z</dcterms:created>
  <dc:creator>lita</dc:creator>
  <dc:description/>
  <dc:language>en-US</dc:language>
  <cp:lastModifiedBy>Kim</cp:lastModifiedBy>
  <cp:lastPrinted>2002-03-30T12:54:32Z</cp:lastPrinted>
  <dcterms:modified xsi:type="dcterms:W3CDTF">2009-11-08T18:35:44Z</dcterms:modified>
  <cp:revision>10</cp:revision>
  <dc:subject/>
  <dc:title>Money Matters</dc:title>
</cp:coreProperties>
</file>